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10.wmf" ContentType="image/x-wmf"/>
  <Override PartName="/ppt/media/image47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7162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821040"/>
            <a:ext cx="7162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128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2440" y="266652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34520" y="266652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82104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2440" y="382104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34520" y="382104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90720" y="2666520"/>
            <a:ext cx="716256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716256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162560" cy="9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9072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2666520"/>
            <a:ext cx="716256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128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821040"/>
            <a:ext cx="7162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7162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90720" y="3821040"/>
            <a:ext cx="7162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128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12440" y="266652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34520" y="266652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90720" y="382104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12440" y="382104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34520" y="3821040"/>
            <a:ext cx="2306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716256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162560" cy="9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1280" y="382104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2666520"/>
            <a:ext cx="34952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821040"/>
            <a:ext cx="71625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72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3 - </a:t>
            </a:r>
            <a:fld id="{28BCE3B0-1784-487D-BE9F-FEAAB5236614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1"/>
          </p:nvPr>
        </p:nvSpPr>
        <p:spPr>
          <a:xfrm>
            <a:off x="114264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4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934320" y="6396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lide 3 - </a:t>
            </a:r>
            <a:fld id="{4169FA8E-C691-42E1-BAB7-EBB428229327}" type="slidenum">
              <a:rPr b="1" lang="en-US" sz="12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0000cc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0000cc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4.wmf"/><Relationship Id="rId1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4.wmf"/><Relationship Id="rId1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8.wmf"/><Relationship Id="rId1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8.wmf"/><Relationship Id="rId1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7.wmf"/><Relationship Id="rId1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7.wmf"/><Relationship Id="rId1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wmf"/><Relationship Id="rId6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wmf"/><Relationship Id="rId6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wmf"/><Relationship Id="rId14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1.wmf"/><Relationship Id="rId1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wmf"/><Relationship Id="rId14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1.wmf"/><Relationship Id="rId1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6.wmf"/><Relationship Id="rId14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6.wmf"/><Relationship Id="rId14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1.wmf"/><Relationship Id="rId14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1.wmf"/><Relationship Id="rId14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5.wmf"/><Relationship Id="rId14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5.wmf"/><Relationship Id="rId1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152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Active Learning Lecture Sl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For use with Classroom Respons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640080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© 2009 Pearson Education,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828800"/>
            <a:ext cx="36576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Arial"/>
              </a:rPr>
              <a:t>Chapter 3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Arial"/>
              </a:rPr>
              <a:t>Quadratic Functions and Equations; Inequaliti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57600" y="1227240"/>
            <a:ext cx="4434120" cy="55544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lify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371600" y="198108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lify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lify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1371600" y="41148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0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2057400" y="1752480"/>
          <a:ext cx="1096920" cy="946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1752480"/>
                    <a:ext cx="1096920" cy="9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2057400" y="2743200"/>
          <a:ext cx="944640" cy="946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57400" y="2743200"/>
                    <a:ext cx="94464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2133720" y="4876920"/>
          <a:ext cx="641160" cy="946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33720" y="4876920"/>
                    <a:ext cx="64116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057400" y="3809880"/>
          <a:ext cx="944640" cy="946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57400" y="3809880"/>
                    <a:ext cx="944640" cy="9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0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2057400" y="1752480"/>
          <a:ext cx="1096920" cy="946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1752480"/>
                    <a:ext cx="1096920" cy="9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057400" y="2743200"/>
          <a:ext cx="944640" cy="946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57400" y="2743200"/>
                    <a:ext cx="94464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2133720" y="4876920"/>
          <a:ext cx="641160" cy="946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33720" y="4876920"/>
                    <a:ext cx="64116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2057400" y="3809880"/>
          <a:ext cx="944640" cy="946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57400" y="3809880"/>
                    <a:ext cx="944640" cy="9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1371600" y="198108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 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0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2225520" y="1905120"/>
          <a:ext cx="1279800" cy="549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25520" y="1905120"/>
                    <a:ext cx="127980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2227320" y="2743200"/>
          <a:ext cx="1217520" cy="1038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27320" y="2743200"/>
                    <a:ext cx="12175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2317680" y="3809880"/>
          <a:ext cx="1127160" cy="1038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317680" y="3809880"/>
                    <a:ext cx="112716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2317680" y="4952880"/>
          <a:ext cx="1339920" cy="1038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317680" y="4952880"/>
                    <a:ext cx="13399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: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 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0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2225520" y="1905120"/>
          <a:ext cx="1279800" cy="549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25520" y="1905120"/>
                    <a:ext cx="127980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2227320" y="2743200"/>
          <a:ext cx="1217520" cy="1038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27320" y="2743200"/>
                    <a:ext cx="12175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2317680" y="3809880"/>
          <a:ext cx="1127160" cy="1038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317680" y="3809880"/>
                    <a:ext cx="112716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2317680" y="4952880"/>
          <a:ext cx="1339920" cy="1038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317680" y="4952880"/>
                    <a:ext cx="13399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1447920" y="5105520"/>
            <a:ext cx="53316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523880" y="1522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by completing the squar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2133720" y="1919160"/>
          <a:ext cx="1158840" cy="519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1919160"/>
                    <a:ext cx="115884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2057400" y="5105520"/>
          <a:ext cx="1460520" cy="549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57400" y="5105520"/>
                    <a:ext cx="146052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2135160" y="2895480"/>
          <a:ext cx="1370160" cy="519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35160" y="2895480"/>
                    <a:ext cx="13701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2057400" y="4038480"/>
          <a:ext cx="1279440" cy="549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57400" y="4038480"/>
                    <a:ext cx="127944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523880" y="1522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by completing the squar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2027160" y="1919160"/>
          <a:ext cx="1371600" cy="519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27160" y="1919160"/>
                    <a:ext cx="137160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2057400" y="5105520"/>
          <a:ext cx="1460520" cy="549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57400" y="5105520"/>
                    <a:ext cx="146052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2135160" y="2895480"/>
          <a:ext cx="1370160" cy="519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35160" y="2895480"/>
                    <a:ext cx="13701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2057400" y="4038480"/>
          <a:ext cx="1279440" cy="549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57400" y="4038480"/>
                    <a:ext cx="127944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1447920" y="1981080"/>
            <a:ext cx="53316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23880" y="1522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2 by completing the squar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2147760" y="1889280"/>
          <a:ext cx="1281240" cy="549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47760" y="1889280"/>
                    <a:ext cx="128124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2286000" y="2971800"/>
          <a:ext cx="1004760" cy="488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86000" y="2971800"/>
                    <a:ext cx="100476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2119320" y="3809880"/>
          <a:ext cx="1492200" cy="1038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19320" y="3809880"/>
                    <a:ext cx="149220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2195640" y="5105520"/>
          <a:ext cx="1461960" cy="549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95640" y="5105520"/>
                    <a:ext cx="146196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21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HA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P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TER 3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Quadratic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Functions and Eq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u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at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io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ns;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Inequalitie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480" y="266652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mplex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dratic Equations, Functions, Zeros, and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ing Graphs of Quadratic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ing Rational Equations and Radical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ing Equations and Inequalities with Absolute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48320" y="6026040"/>
            <a:ext cx="684000" cy="831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523880" y="1522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2 by completing the squar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2147760" y="1889280"/>
          <a:ext cx="1281240" cy="549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47760" y="1889280"/>
                    <a:ext cx="128124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2286000" y="2971800"/>
          <a:ext cx="1004760" cy="488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86000" y="2971800"/>
                    <a:ext cx="100476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"/>
          <p:cNvGraphicFramePr/>
          <p:nvPr/>
        </p:nvGraphicFramePr>
        <p:xfrm>
          <a:off x="2119320" y="3809880"/>
          <a:ext cx="1492200" cy="1038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19320" y="3809880"/>
                    <a:ext cx="149220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2195640" y="5105520"/>
          <a:ext cx="1461960" cy="549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95640" y="5105520"/>
                    <a:ext cx="146196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1447920" y="5105520"/>
            <a:ext cx="53316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zeros of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1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5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2255760" y="2743200"/>
          <a:ext cx="944640" cy="94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55760" y="2743200"/>
                    <a:ext cx="94464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2192400" y="3860640"/>
          <a:ext cx="852480" cy="947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92400" y="3860640"/>
                    <a:ext cx="85248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"/>
          <p:cNvGraphicFramePr/>
          <p:nvPr/>
        </p:nvGraphicFramePr>
        <p:xfrm>
          <a:off x="2179800" y="4902120"/>
          <a:ext cx="852480" cy="947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79800" y="4902120"/>
                    <a:ext cx="85248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"/>
          <p:cNvGraphicFramePr/>
          <p:nvPr/>
        </p:nvGraphicFramePr>
        <p:xfrm>
          <a:off x="2166840" y="1955880"/>
          <a:ext cx="669960" cy="426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66840" y="1955880"/>
                    <a:ext cx="6699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zeros of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1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5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2255760" y="2743200"/>
          <a:ext cx="944640" cy="94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55760" y="2743200"/>
                    <a:ext cx="94464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2192400" y="3860640"/>
          <a:ext cx="852480" cy="947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92400" y="3860640"/>
                    <a:ext cx="85248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"/>
          <p:cNvGraphicFramePr/>
          <p:nvPr/>
        </p:nvGraphicFramePr>
        <p:xfrm>
          <a:off x="2179800" y="4902120"/>
          <a:ext cx="852480" cy="947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79800" y="4902120"/>
                    <a:ext cx="85248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2166840" y="1955880"/>
          <a:ext cx="669960" cy="426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66840" y="1955880"/>
                    <a:ext cx="6699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"/>
          <p:cNvSpPr/>
          <p:nvPr/>
        </p:nvSpPr>
        <p:spPr>
          <a:xfrm>
            <a:off x="1371600" y="41148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523880" y="15228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um of the base and height of a triangle is 56 in. Find the height for which the area is maximum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447920" y="24066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14 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1447920" y="43369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42 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447920" y="337176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28 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447920" y="5302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112 i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523880" y="15228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um of the base and height of a triangle is 56 in. Find the height for which the area is maximum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447920" y="24066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14 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447920" y="43369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42 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447920" y="337176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28 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447920" y="5302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112 i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1371600" y="347328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523880" y="1522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the graph of the function            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16 find the vertex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447920" y="21337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 (2, 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1447920" y="40640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 (2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447920" y="3098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 (2, 5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  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, 4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523880" y="1522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the graph of the function            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16 find the vertex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447920" y="21337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 (2, 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1447920" y="40640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 (2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447920" y="3098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 (2, 5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  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, 4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"/>
          <p:cNvSpPr/>
          <p:nvPr/>
        </p:nvSpPr>
        <p:spPr>
          <a:xfrm>
            <a:off x="1371600" y="22860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523880" y="15228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the graph of the function            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8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 find the axis of symmetry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47920" y="25588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1447920" y="44895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447920" y="35244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47920" y="5454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1930320" y="4336920"/>
          <a:ext cx="1005120" cy="1038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30320" y="4336920"/>
                    <a:ext cx="10051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523880" y="15228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the graph of the function            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8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1 find the axis of symmetry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447920" y="25588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1447920" y="44895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447920" y="35244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447920" y="5454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1930320" y="4336920"/>
          <a:ext cx="1005120" cy="1038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30320" y="4336920"/>
                    <a:ext cx="10051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1371600" y="36259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523880" y="15228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the graph of the function            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3 find the axis of symmetry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47920" y="25588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1447920" y="44895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447920" y="35244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447920" y="5454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1981080" y="4387680"/>
          <a:ext cx="1005120" cy="1038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4387680"/>
                    <a:ext cx="10051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"/>
          <p:cNvGraphicFramePr/>
          <p:nvPr/>
        </p:nvGraphicFramePr>
        <p:xfrm>
          <a:off x="1981080" y="3346560"/>
          <a:ext cx="1005120" cy="1038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3346560"/>
                    <a:ext cx="10051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ress         in terms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2084400" y="4051440"/>
          <a:ext cx="816120" cy="54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84400" y="4051440"/>
                    <a:ext cx="8161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086280" y="216000"/>
          <a:ext cx="904680" cy="496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280" y="216000"/>
                    <a:ext cx="90468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936800" y="1905120"/>
          <a:ext cx="936720" cy="546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36800" y="1905120"/>
                    <a:ext cx="9367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2071800" y="2971800"/>
          <a:ext cx="815760" cy="546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71800" y="2971800"/>
                    <a:ext cx="815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2046240" y="5067360"/>
          <a:ext cx="996840" cy="546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046240" y="5067360"/>
                    <a:ext cx="9968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523880" y="15228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the graph of the function            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3 find the axis of symmetry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447920" y="25588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1447920" y="44895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447920" y="35244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47920" y="5454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1981080" y="4387680"/>
          <a:ext cx="1005120" cy="1038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4387680"/>
                    <a:ext cx="10051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1981080" y="3346560"/>
          <a:ext cx="1005120" cy="1038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3346560"/>
                    <a:ext cx="10051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"/>
          <p:cNvSpPr/>
          <p:nvPr/>
        </p:nvSpPr>
        <p:spPr>
          <a:xfrm>
            <a:off x="1371600" y="36259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523880" y="15228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tes have 30 feet of picket fence with which to enclose a flower garden. What dimensions should the garden have in order to maximize area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447920" y="27874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2 ft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1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1447920" y="47181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7.5 ft by 7.5 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447920" y="3753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4 ft by 11 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10 ft by 5 f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523880" y="15228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tes have 30 feet of picket fence with which to enclose a flower garden. What dimensions should the garden have in order to maximize area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447920" y="27874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2 ft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1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447920" y="47181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7.5 ft by 7.5 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447920" y="3753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4 ft by 11 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447920" y="5683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10 ft by 5 f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"/>
          <p:cNvSpPr/>
          <p:nvPr/>
        </p:nvSpPr>
        <p:spPr>
          <a:xfrm>
            <a:off x="1371600" y="484488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523880" y="3682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371600" y="1981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1371600" y="4267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71600" y="3124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,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371600" y="5410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, 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2819520" y="185760"/>
          <a:ext cx="3098520" cy="1033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19520" y="185760"/>
                    <a:ext cx="309852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523880" y="3682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371600" y="1981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1371600" y="4267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371600" y="3124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,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371600" y="5410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, 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5" name=""/>
          <p:cNvGraphicFramePr/>
          <p:nvPr/>
        </p:nvGraphicFramePr>
        <p:xfrm>
          <a:off x="2819520" y="185760"/>
          <a:ext cx="3098520" cy="1033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19520" y="185760"/>
                    <a:ext cx="309852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"/>
          <p:cNvSpPr/>
          <p:nvPr/>
        </p:nvSpPr>
        <p:spPr>
          <a:xfrm>
            <a:off x="1371600" y="54864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523880" y="3348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371600" y="1981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1447920" y="4267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447920" y="3124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447920" y="5410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1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"/>
          <p:cNvGraphicFramePr/>
          <p:nvPr/>
        </p:nvGraphicFramePr>
        <p:xfrm>
          <a:off x="2679840" y="309600"/>
          <a:ext cx="2765160" cy="60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79840" y="309600"/>
                    <a:ext cx="27651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523880" y="3348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371600" y="1981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1447920" y="4267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447920" y="3124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447920" y="5410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1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"/>
          <p:cNvGraphicFramePr/>
          <p:nvPr/>
        </p:nvGraphicFramePr>
        <p:xfrm>
          <a:off x="2679840" y="309600"/>
          <a:ext cx="2765160" cy="60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79840" y="309600"/>
                    <a:ext cx="27651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1371600" y="32004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523880" y="3348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371600" y="1981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 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1447920" y="4267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447920" y="3124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 5, 6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447920" y="5410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2746440" y="309600"/>
          <a:ext cx="2631960" cy="60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6440" y="309600"/>
                    <a:ext cx="26319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2189160" y="5257800"/>
          <a:ext cx="630360" cy="1028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89160" y="5257800"/>
                    <a:ext cx="63036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523880" y="3348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371600" y="1981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  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1447920" y="4267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447920" y="3124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 5, 6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447920" y="5410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3" name=""/>
          <p:cNvGraphicFramePr/>
          <p:nvPr/>
        </p:nvGraphicFramePr>
        <p:xfrm>
          <a:off x="2746440" y="309600"/>
          <a:ext cx="2631960" cy="60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6440" y="309600"/>
                    <a:ext cx="26319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5" name=""/>
          <p:cNvGraphicFramePr/>
          <p:nvPr/>
        </p:nvGraphicFramePr>
        <p:xfrm>
          <a:off x="2189160" y="5257800"/>
          <a:ext cx="630360" cy="1028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89160" y="5257800"/>
                    <a:ext cx="63036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"/>
          <p:cNvSpPr/>
          <p:nvPr/>
        </p:nvSpPr>
        <p:spPr>
          <a:xfrm>
            <a:off x="1371600" y="4419720"/>
            <a:ext cx="533520" cy="533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523880" y="3808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371600" y="1981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1447920" y="4267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447920" y="3124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447920" y="5410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  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7" name=""/>
          <p:cNvGraphicFramePr/>
          <p:nvPr/>
        </p:nvGraphicFramePr>
        <p:xfrm>
          <a:off x="2844720" y="324000"/>
          <a:ext cx="2032200" cy="66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44720" y="324000"/>
                    <a:ext cx="20322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9" name=""/>
          <p:cNvGraphicFramePr/>
          <p:nvPr/>
        </p:nvGraphicFramePr>
        <p:xfrm>
          <a:off x="2179800" y="1828800"/>
          <a:ext cx="804600" cy="1039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79800" y="1828800"/>
                    <a:ext cx="80460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"/>
          <p:cNvGraphicFramePr/>
          <p:nvPr/>
        </p:nvGraphicFramePr>
        <p:xfrm>
          <a:off x="2179800" y="2971800"/>
          <a:ext cx="1172880" cy="1039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79800" y="2971800"/>
                    <a:ext cx="117288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3" name=""/>
          <p:cNvGraphicFramePr/>
          <p:nvPr/>
        </p:nvGraphicFramePr>
        <p:xfrm>
          <a:off x="2189160" y="4114800"/>
          <a:ext cx="1239840" cy="1039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89160" y="4114800"/>
                    <a:ext cx="123984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ress         in terms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2084400" y="4051440"/>
          <a:ext cx="816120" cy="54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84400" y="4051440"/>
                    <a:ext cx="8161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086280" y="216000"/>
          <a:ext cx="904680" cy="496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280" y="216000"/>
                    <a:ext cx="90468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936800" y="1905120"/>
          <a:ext cx="936720" cy="546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36800" y="1905120"/>
                    <a:ext cx="9367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2071800" y="2971800"/>
          <a:ext cx="815760" cy="546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71800" y="2971800"/>
                    <a:ext cx="815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046240" y="5067360"/>
          <a:ext cx="996840" cy="546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046240" y="5067360"/>
                    <a:ext cx="9968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371600" y="29718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523880" y="3808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371600" y="1981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1447920" y="4267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447920" y="3124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447920" y="5410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  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2844720" y="324000"/>
          <a:ext cx="2032200" cy="66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44720" y="324000"/>
                    <a:ext cx="20322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2179800" y="1828800"/>
          <a:ext cx="804600" cy="1039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79800" y="1828800"/>
                    <a:ext cx="80460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"/>
          <p:cNvGraphicFramePr/>
          <p:nvPr/>
        </p:nvGraphicFramePr>
        <p:xfrm>
          <a:off x="2179800" y="2971800"/>
          <a:ext cx="1172880" cy="1039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79800" y="2971800"/>
                    <a:ext cx="117288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"/>
          <p:cNvGraphicFramePr/>
          <p:nvPr/>
        </p:nvGraphicFramePr>
        <p:xfrm>
          <a:off x="2189160" y="4114800"/>
          <a:ext cx="1239840" cy="1039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89160" y="4114800"/>
                    <a:ext cx="123984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2" name=""/>
          <p:cNvSpPr/>
          <p:nvPr/>
        </p:nvSpPr>
        <p:spPr>
          <a:xfrm>
            <a:off x="1371600" y="32004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523880" y="3240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371600" y="1981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1447920" y="4267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447920" y="3124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447920" y="5410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2" name=""/>
          <p:cNvGraphicFramePr/>
          <p:nvPr/>
        </p:nvGraphicFramePr>
        <p:xfrm>
          <a:off x="2868480" y="324000"/>
          <a:ext cx="1932120" cy="66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68480" y="324000"/>
                    <a:ext cx="19321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4" name=""/>
          <p:cNvGraphicFramePr/>
          <p:nvPr/>
        </p:nvGraphicFramePr>
        <p:xfrm>
          <a:off x="2093760" y="1828800"/>
          <a:ext cx="1106640" cy="1039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0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93760" y="1828800"/>
                    <a:ext cx="110664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6" name=""/>
          <p:cNvGraphicFramePr/>
          <p:nvPr/>
        </p:nvGraphicFramePr>
        <p:xfrm>
          <a:off x="2170080" y="2971800"/>
          <a:ext cx="669960" cy="1039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70080" y="2971800"/>
                    <a:ext cx="66996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2170080" y="4114800"/>
          <a:ext cx="838080" cy="1039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70080" y="4114800"/>
                    <a:ext cx="83808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2246400" y="5257800"/>
          <a:ext cx="401400" cy="1039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1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46400" y="5257800"/>
                    <a:ext cx="40140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523880" y="3240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371600" y="1981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1447920" y="4267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447920" y="3124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447920" y="5410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2868480" y="324000"/>
          <a:ext cx="1932120" cy="66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68480" y="324000"/>
                    <a:ext cx="19321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"/>
          <p:cNvGraphicFramePr/>
          <p:nvPr/>
        </p:nvGraphicFramePr>
        <p:xfrm>
          <a:off x="2093760" y="1828800"/>
          <a:ext cx="1106640" cy="1039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93760" y="1828800"/>
                    <a:ext cx="110664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"/>
          <p:cNvGraphicFramePr/>
          <p:nvPr/>
        </p:nvGraphicFramePr>
        <p:xfrm>
          <a:off x="2170080" y="2971800"/>
          <a:ext cx="669960" cy="1039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70080" y="2971800"/>
                    <a:ext cx="66996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2170080" y="4114800"/>
          <a:ext cx="838080" cy="1039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2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70080" y="4114800"/>
                    <a:ext cx="83808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2246400" y="5257800"/>
          <a:ext cx="401400" cy="1039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46400" y="5257800"/>
                    <a:ext cx="40140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1" name=""/>
          <p:cNvSpPr/>
          <p:nvPr/>
        </p:nvSpPr>
        <p:spPr>
          <a:xfrm>
            <a:off x="1295280" y="20574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523880" y="1522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371600" y="1981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1447920" y="4267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447920" y="3124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447920" y="5410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1" name=""/>
          <p:cNvGraphicFramePr/>
          <p:nvPr/>
        </p:nvGraphicFramePr>
        <p:xfrm>
          <a:off x="2876400" y="152280"/>
          <a:ext cx="1665360" cy="66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76400" y="152280"/>
                    <a:ext cx="166536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3" name=""/>
          <p:cNvGraphicFramePr/>
          <p:nvPr/>
        </p:nvGraphicFramePr>
        <p:xfrm>
          <a:off x="2073240" y="2057400"/>
          <a:ext cx="3184560" cy="671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73240" y="2057400"/>
                    <a:ext cx="318456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5" name=""/>
          <p:cNvGraphicFramePr/>
          <p:nvPr/>
        </p:nvGraphicFramePr>
        <p:xfrm>
          <a:off x="2149560" y="4343400"/>
          <a:ext cx="2647800" cy="671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49560" y="4343400"/>
                    <a:ext cx="26478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7" name=""/>
          <p:cNvGraphicFramePr/>
          <p:nvPr/>
        </p:nvGraphicFramePr>
        <p:xfrm>
          <a:off x="2225520" y="5410080"/>
          <a:ext cx="970200" cy="669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4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25520" y="5410080"/>
                    <a:ext cx="97020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2225520" y="3124080"/>
          <a:ext cx="1508400" cy="671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25520" y="3124080"/>
                    <a:ext cx="150840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523880" y="1522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371600" y="1981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1447920" y="4267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447920" y="3124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447920" y="5410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0" name=""/>
          <p:cNvGraphicFramePr/>
          <p:nvPr/>
        </p:nvGraphicFramePr>
        <p:xfrm>
          <a:off x="2876400" y="152280"/>
          <a:ext cx="1665360" cy="66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76400" y="152280"/>
                    <a:ext cx="166536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2" name=""/>
          <p:cNvGraphicFramePr/>
          <p:nvPr/>
        </p:nvGraphicFramePr>
        <p:xfrm>
          <a:off x="2073240" y="2057400"/>
          <a:ext cx="3184560" cy="671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73240" y="2057400"/>
                    <a:ext cx="318456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2149560" y="4343400"/>
          <a:ext cx="2647800" cy="671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49560" y="4343400"/>
                    <a:ext cx="26478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2225520" y="5410080"/>
          <a:ext cx="970200" cy="669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25520" y="5410080"/>
                    <a:ext cx="97020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2225520" y="3124080"/>
          <a:ext cx="1508400" cy="671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25520" y="3124080"/>
                    <a:ext cx="150840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0" name=""/>
          <p:cNvSpPr/>
          <p:nvPr/>
        </p:nvSpPr>
        <p:spPr>
          <a:xfrm>
            <a:off x="1295280" y="20574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523880" y="1522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371600" y="1981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1447920" y="4267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447920" y="3124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447920" y="5410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0" name=""/>
          <p:cNvGraphicFramePr/>
          <p:nvPr/>
        </p:nvGraphicFramePr>
        <p:xfrm>
          <a:off x="2793960" y="152280"/>
          <a:ext cx="1832040" cy="66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93960" y="152280"/>
                    <a:ext cx="18320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2120760" y="2057400"/>
          <a:ext cx="2984760" cy="671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8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20760" y="2057400"/>
                    <a:ext cx="298476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4" name=""/>
          <p:cNvGraphicFramePr/>
          <p:nvPr/>
        </p:nvGraphicFramePr>
        <p:xfrm>
          <a:off x="2021040" y="4343400"/>
          <a:ext cx="3016080" cy="671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21040" y="4343400"/>
                    <a:ext cx="301608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6" name=""/>
          <p:cNvGraphicFramePr/>
          <p:nvPr/>
        </p:nvGraphicFramePr>
        <p:xfrm>
          <a:off x="2097000" y="5410080"/>
          <a:ext cx="1305000" cy="669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8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97000" y="5410080"/>
                    <a:ext cx="130500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8" name=""/>
          <p:cNvGraphicFramePr/>
          <p:nvPr/>
        </p:nvGraphicFramePr>
        <p:xfrm>
          <a:off x="2173320" y="3124080"/>
          <a:ext cx="1306440" cy="671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173320" y="3124080"/>
                    <a:ext cx="130644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523880" y="1522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371600" y="1981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694" name=""/>
          <p:cNvSpPr/>
          <p:nvPr/>
        </p:nvSpPr>
        <p:spPr>
          <a:xfrm>
            <a:off x="1447920" y="4267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447920" y="3124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447920" y="5410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9" name=""/>
          <p:cNvGraphicFramePr/>
          <p:nvPr/>
        </p:nvGraphicFramePr>
        <p:xfrm>
          <a:off x="2793960" y="152280"/>
          <a:ext cx="1832040" cy="66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93960" y="152280"/>
                    <a:ext cx="18320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1" name=""/>
          <p:cNvGraphicFramePr/>
          <p:nvPr/>
        </p:nvGraphicFramePr>
        <p:xfrm>
          <a:off x="2120760" y="2057400"/>
          <a:ext cx="2984760" cy="671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0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20760" y="2057400"/>
                    <a:ext cx="298476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3" name=""/>
          <p:cNvGraphicFramePr/>
          <p:nvPr/>
        </p:nvGraphicFramePr>
        <p:xfrm>
          <a:off x="2021040" y="4343400"/>
          <a:ext cx="3016080" cy="671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0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21040" y="4343400"/>
                    <a:ext cx="301608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5" name=""/>
          <p:cNvGraphicFramePr/>
          <p:nvPr/>
        </p:nvGraphicFramePr>
        <p:xfrm>
          <a:off x="2097000" y="5410080"/>
          <a:ext cx="1305000" cy="669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0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97000" y="5410080"/>
                    <a:ext cx="130500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7" name=""/>
          <p:cNvGraphicFramePr/>
          <p:nvPr/>
        </p:nvGraphicFramePr>
        <p:xfrm>
          <a:off x="2173320" y="3124080"/>
          <a:ext cx="1306440" cy="671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0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173320" y="3124080"/>
                    <a:ext cx="130644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9" name=""/>
          <p:cNvSpPr/>
          <p:nvPr/>
        </p:nvSpPr>
        <p:spPr>
          <a:xfrm>
            <a:off x="1371600" y="320040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lify: (4 –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– (8 +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–4 –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12 –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–4 +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–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lify: (4 –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– (8 +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–4 –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12 –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–4 +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–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371600" y="198108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lify: (3 +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(4 –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14 +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12 –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10 +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7 +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lify: (3 +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(4 –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14 +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 12 –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10 +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7 +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371600" y="1981080"/>
            <a:ext cx="533520" cy="5335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2286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lify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1828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33640" cy="1043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447920" y="3962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2895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47920" y="5029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8:30:59Z</dcterms:created>
  <dc:creator>Addison Wesley</dc:creator>
  <dc:description/>
  <dc:language>en-US</dc:language>
  <cp:lastModifiedBy>Jennifer Thomas</cp:lastModifiedBy>
  <dcterms:modified xsi:type="dcterms:W3CDTF">2008-05-23T13:38:24Z</dcterms:modified>
  <cp:revision>211</cp:revision>
  <dc:subject/>
  <dc:title>No Slide Title</dc:title>
</cp:coreProperties>
</file>